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1A5-77E5-4D50-976B-34F0282869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7D8-2A4C-461C-9541-C7AA6137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A90-4AFC-4E9C-BC04-D0534EF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150-9467-45D9-8611-3FFB6F32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DCB-5A19-49FB-A307-D87D50F7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CB4-BC2F-438B-8CE6-107C58A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F28-F62A-4D8B-A384-9FA8753C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B06-B794-4284-90E1-CCA02AD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118-E2C4-41A3-A713-7458D92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108-F1FB-4831-BD3C-5ADF7D0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07D-15FA-419B-9232-D590FA5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9A6-1A2A-4173-988D-BF117A4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070-447D-42E6-B953-C43B135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2E36-6137-4B3F-95F3-E2DEB8B8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8" name="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2" name="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71" name="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8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9" name="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10" name="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30" name="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9" name="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2" name="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5" name="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6" name="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4" name="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7" name="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81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10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8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8" name="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6" name="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5" name="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8" name="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4" name="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4" name="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7" name="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2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3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2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8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9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8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4" name="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5" name="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4" name="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30" name="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3" name="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8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6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9" name="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5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3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11" name="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9" name="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C++ STL implemenat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 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red prazan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uprotn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&amp; fr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na vrijednost sa front-a nepraznog r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o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lanja e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praznog r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push(const T&amp; f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me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fo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kraj reda (rea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_type 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aća ukupan broj eleme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r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19:56:27Z</dcterms:modified>
  <cp:revision>282</cp:revision>
  <dc:subject/>
  <dc:title>Data Representation Methods</dc:title>
</cp:coreProperties>
</file>