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85D6-838C-4449-8526-E103F1D335E2}" type="slidenum">
              <a: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icture is really a stack of cups and sauc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FO = last in first out. The first cup that is removed from a stack of cups i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ast one that was added to the st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ther examples of LIFO lists in real life: stack of trays in a cafeteria; paper stack in a printer or copy machine; newspaper stack at a news st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ing parenthesis is nearest unmatched parenthesis on le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C6A7-5C84-4AA0-A3D1-8A4A973D4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E9A8-E3D6-4063-A921-9E059DE6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131D-D008-4828-A786-C08CFCE46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9707-7AF6-4BB2-BE91-17B234787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C70A-DA78-4DA2-950E-08DDC813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92CD-221D-4137-A4AA-1130A76A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2E4E-F483-42F5-B5BC-00AF3B53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6EEC-6E27-4F72-9A6A-9E48A9E0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EE4D-44D4-48BF-9F3D-589BC9AE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665D-4BD5-4B80-91CB-506B7658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FA1F-5ED9-4709-8CFB-FEEC7B86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F274-AF00-426F-A71F-E4473A94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4A1D-032E-4BB7-8BB6-C5D9C38BBC2A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.png"/><Relationship Id="rId23" Type="http://schemas.openxmlformats.org/officeDocument/2006/relationships/slideLayout" Target="../slideLayouts/slideLayout3.xml"/><Relationship Id="rId2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Stek (Stack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624852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990720" y="2819520"/>
            <a:ext cx="761760" cy="2743200"/>
            <a:chOff x="990720" y="2819520"/>
            <a:chExt cx="761760" cy="2743200"/>
          </a:xfrm>
        </p:grpSpPr>
        <p:sp>
          <p:nvSpPr>
            <p:cNvPr id="156" name=""/>
            <p:cNvSpPr/>
            <p:nvPr/>
          </p:nvSpPr>
          <p:spPr>
            <a:xfrm>
              <a:off x="99072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90720" y="556272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5248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066680" y="5105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48006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,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9480" y="4730760"/>
            <a:ext cx="444240" cy="444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54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1,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15,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0552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21,2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64832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990720" y="2819520"/>
            <a:ext cx="761760" cy="2743200"/>
            <a:chOff x="990720" y="2819520"/>
            <a:chExt cx="761760" cy="2743200"/>
          </a:xfrm>
        </p:grpSpPr>
        <p:sp>
          <p:nvSpPr>
            <p:cNvPr id="170" name=""/>
            <p:cNvSpPr/>
            <p:nvPr/>
          </p:nvSpPr>
          <p:spPr>
            <a:xfrm>
              <a:off x="99072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90720" y="556272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5248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066680" y="5105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8006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,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49480" y="4730760"/>
            <a:ext cx="444240" cy="444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1,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8620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15,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0552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21,2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7,3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73160" y="5035680"/>
            <a:ext cx="444600" cy="4442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152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0,3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760" y="594360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t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mplementacija stek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mo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ni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143000" y="2743200"/>
            <a:ext cx="64008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mplementacija stek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moću olančane li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924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Stek (Stack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3200400"/>
            <a:ext cx="838224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nearna lis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Jed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 kraj liste j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vrh il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t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rugi karj j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raj il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bott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davanaje i uklanjanje elemenata obavlja se samo sa stran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t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715000" y="99072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05120" y="990720"/>
            <a:ext cx="11890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Stek 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š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olj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5029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odavanje šolje na ste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876920" y="1447920"/>
            <a:ext cx="2895480" cy="3246840"/>
            <a:chOff x="4876920" y="1447920"/>
            <a:chExt cx="2895480" cy="3246840"/>
          </a:xfrm>
        </p:grpSpPr>
        <p:grpSp>
          <p:nvGrpSpPr>
            <p:cNvPr id="57" name=""/>
            <p:cNvGrpSpPr/>
            <p:nvPr/>
          </p:nvGrpSpPr>
          <p:grpSpPr>
            <a:xfrm>
              <a:off x="4876920" y="4114800"/>
              <a:ext cx="2057400" cy="579960"/>
              <a:chOff x="4876920" y="4114800"/>
              <a:chExt cx="2057400" cy="579960"/>
            </a:xfrm>
          </p:grpSpPr>
          <p:sp>
            <p:nvSpPr>
              <p:cNvPr id="58" name=""/>
              <p:cNvSpPr/>
              <p:nvPr/>
            </p:nvSpPr>
            <p:spPr>
              <a:xfrm>
                <a:off x="4876920" y="4114800"/>
                <a:ext cx="13716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bottom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172200" y="4419720"/>
                <a:ext cx="762120" cy="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5334120" y="1523880"/>
              <a:ext cx="9144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  <a:ea typeface="新細明體"/>
                </a:rPr>
                <a:t>to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172200" y="1828800"/>
              <a:ext cx="76212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6996240" y="3048120"/>
              <a:ext cx="776160" cy="566640"/>
              <a:chOff x="6996240" y="3048120"/>
              <a:chExt cx="776160" cy="566640"/>
            </a:xfrm>
          </p:grpSpPr>
          <p:graphicFrame>
            <p:nvGraphicFramePr>
              <p:cNvPr id="63" name=""/>
              <p:cNvGraphicFramePr/>
              <p:nvPr/>
            </p:nvGraphicFramePr>
            <p:xfrm>
              <a:off x="6996240" y="3048120"/>
              <a:ext cx="776160" cy="5666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996240" y="3048120"/>
                        <a:ext cx="77616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5" name=""/>
              <p:cNvSpPr/>
              <p:nvPr/>
            </p:nvSpPr>
            <p:spPr>
              <a:xfrm>
                <a:off x="7238880" y="320040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6996240" y="4114800"/>
              <a:ext cx="776160" cy="566640"/>
              <a:chOff x="6996240" y="4114800"/>
              <a:chExt cx="776160" cy="566640"/>
            </a:xfrm>
          </p:grpSpPr>
          <p:graphicFrame>
            <p:nvGraphicFramePr>
              <p:cNvPr id="67" name=""/>
              <p:cNvGraphicFramePr/>
              <p:nvPr/>
            </p:nvGraphicFramePr>
            <p:xfrm>
              <a:off x="6996240" y="4114800"/>
              <a:ext cx="776160" cy="5666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8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996240" y="4114800"/>
                        <a:ext cx="77616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9" name=""/>
              <p:cNvSpPr/>
              <p:nvPr/>
            </p:nvSpPr>
            <p:spPr>
              <a:xfrm>
                <a:off x="7238880" y="426708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6996240" y="3581280"/>
              <a:ext cx="776160" cy="567000"/>
              <a:chOff x="6996240" y="3581280"/>
              <a:chExt cx="776160" cy="567000"/>
            </a:xfrm>
          </p:grpSpPr>
          <p:graphicFrame>
            <p:nvGraphicFramePr>
              <p:cNvPr id="71" name=""/>
              <p:cNvGraphicFramePr/>
              <p:nvPr/>
            </p:nvGraphicFramePr>
            <p:xfrm>
              <a:off x="6996240" y="3581280"/>
              <a:ext cx="776160" cy="5670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72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996240" y="3581280"/>
                        <a:ext cx="776160" cy="56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3" name=""/>
              <p:cNvSpPr/>
              <p:nvPr/>
            </p:nvSpPr>
            <p:spPr>
              <a:xfrm>
                <a:off x="7238880" y="373392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6996240" y="2514600"/>
              <a:ext cx="776160" cy="566640"/>
              <a:chOff x="6996240" y="2514600"/>
              <a:chExt cx="776160" cy="566640"/>
            </a:xfrm>
          </p:grpSpPr>
          <p:graphicFrame>
            <p:nvGraphicFramePr>
              <p:cNvPr id="75" name=""/>
              <p:cNvGraphicFramePr/>
              <p:nvPr/>
            </p:nvGraphicFramePr>
            <p:xfrm>
              <a:off x="6996240" y="2514600"/>
              <a:ext cx="776160" cy="5666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76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996240" y="2514600"/>
                        <a:ext cx="77616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7" name=""/>
              <p:cNvSpPr/>
              <p:nvPr/>
            </p:nvSpPr>
            <p:spPr>
              <a:xfrm>
                <a:off x="7238880" y="266688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6996240" y="1981080"/>
              <a:ext cx="776160" cy="567000"/>
              <a:chOff x="6996240" y="1981080"/>
              <a:chExt cx="776160" cy="567000"/>
            </a:xfrm>
          </p:grpSpPr>
          <p:graphicFrame>
            <p:nvGraphicFramePr>
              <p:cNvPr id="79" name=""/>
              <p:cNvGraphicFramePr/>
              <p:nvPr/>
            </p:nvGraphicFramePr>
            <p:xfrm>
              <a:off x="6996240" y="1981080"/>
              <a:ext cx="776160" cy="5670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80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6996240" y="1981080"/>
                        <a:ext cx="776160" cy="56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1" name=""/>
              <p:cNvSpPr/>
              <p:nvPr/>
            </p:nvSpPr>
            <p:spPr>
              <a:xfrm>
                <a:off x="7238880" y="213372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6996240" y="1447920"/>
              <a:ext cx="776160" cy="566640"/>
              <a:chOff x="6996240" y="1447920"/>
              <a:chExt cx="776160" cy="566640"/>
            </a:xfrm>
          </p:grpSpPr>
          <p:graphicFrame>
            <p:nvGraphicFramePr>
              <p:cNvPr id="83" name=""/>
              <p:cNvGraphicFramePr/>
              <p:nvPr/>
            </p:nvGraphicFramePr>
            <p:xfrm>
              <a:off x="6996240" y="1447920"/>
              <a:ext cx="776160" cy="56664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84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6996240" y="1447920"/>
                        <a:ext cx="77616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5" name=""/>
              <p:cNvSpPr/>
              <p:nvPr/>
            </p:nvSpPr>
            <p:spPr>
              <a:xfrm>
                <a:off x="7238880" y="160020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" name=""/>
          <p:cNvSpPr/>
          <p:nvPr/>
        </p:nvSpPr>
        <p:spPr>
          <a:xfrm>
            <a:off x="609480" y="56386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klanjanje šolje sa stek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tek 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LIFO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(Last In First Ou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lis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52280" y="1981080"/>
            <a:ext cx="2895840" cy="2713680"/>
            <a:chOff x="152280" y="1981080"/>
            <a:chExt cx="2895840" cy="2713680"/>
          </a:xfrm>
        </p:grpSpPr>
        <p:grpSp>
          <p:nvGrpSpPr>
            <p:cNvPr id="88" name=""/>
            <p:cNvGrpSpPr/>
            <p:nvPr/>
          </p:nvGrpSpPr>
          <p:grpSpPr>
            <a:xfrm>
              <a:off x="152280" y="4114800"/>
              <a:ext cx="2057400" cy="579960"/>
              <a:chOff x="152280" y="4114800"/>
              <a:chExt cx="2057400" cy="579960"/>
            </a:xfrm>
          </p:grpSpPr>
          <p:sp>
            <p:nvSpPr>
              <p:cNvPr id="89" name=""/>
              <p:cNvSpPr/>
              <p:nvPr/>
            </p:nvSpPr>
            <p:spPr>
              <a:xfrm>
                <a:off x="152280" y="4114800"/>
                <a:ext cx="13716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bottom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447920" y="4419720"/>
                <a:ext cx="761760" cy="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685800" y="1981080"/>
              <a:ext cx="9144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  <a:ea typeface="新細明體"/>
                </a:rPr>
                <a:t>to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23880" y="2286000"/>
              <a:ext cx="76212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2271600" y="3048120"/>
              <a:ext cx="776520" cy="566640"/>
              <a:chOff x="2271600" y="3048120"/>
              <a:chExt cx="776520" cy="566640"/>
            </a:xfrm>
          </p:grpSpPr>
          <p:graphicFrame>
            <p:nvGraphicFramePr>
              <p:cNvPr id="94" name=""/>
              <p:cNvGraphicFramePr/>
              <p:nvPr/>
            </p:nvGraphicFramePr>
            <p:xfrm>
              <a:off x="2271600" y="3048120"/>
              <a:ext cx="776520" cy="56664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9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2271600" y="3048120"/>
                        <a:ext cx="77652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6" name=""/>
              <p:cNvSpPr/>
              <p:nvPr/>
            </p:nvSpPr>
            <p:spPr>
              <a:xfrm>
                <a:off x="2514600" y="320040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2271600" y="4114800"/>
              <a:ext cx="776520" cy="566640"/>
              <a:chOff x="2271600" y="4114800"/>
              <a:chExt cx="776520" cy="566640"/>
            </a:xfrm>
          </p:grpSpPr>
          <p:graphicFrame>
            <p:nvGraphicFramePr>
              <p:cNvPr id="98" name=""/>
              <p:cNvGraphicFramePr/>
              <p:nvPr/>
            </p:nvGraphicFramePr>
            <p:xfrm>
              <a:off x="2271600" y="4114800"/>
              <a:ext cx="776520" cy="56664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99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2271600" y="4114800"/>
                        <a:ext cx="77652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0" name=""/>
              <p:cNvSpPr/>
              <p:nvPr/>
            </p:nvSpPr>
            <p:spPr>
              <a:xfrm>
                <a:off x="2514600" y="426708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2271600" y="3581280"/>
              <a:ext cx="776520" cy="567000"/>
              <a:chOff x="2271600" y="3581280"/>
              <a:chExt cx="776520" cy="567000"/>
            </a:xfrm>
          </p:grpSpPr>
          <p:graphicFrame>
            <p:nvGraphicFramePr>
              <p:cNvPr id="102" name=""/>
              <p:cNvGraphicFramePr/>
              <p:nvPr/>
            </p:nvGraphicFramePr>
            <p:xfrm>
              <a:off x="2271600" y="3581280"/>
              <a:ext cx="776520" cy="56700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103" name="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2271600" y="3581280"/>
                        <a:ext cx="776520" cy="56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4" name=""/>
              <p:cNvSpPr/>
              <p:nvPr/>
            </p:nvSpPr>
            <p:spPr>
              <a:xfrm>
                <a:off x="2514600" y="373392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2271600" y="2514600"/>
              <a:ext cx="776520" cy="566640"/>
              <a:chOff x="2271600" y="2514600"/>
              <a:chExt cx="776520" cy="566640"/>
            </a:xfrm>
          </p:grpSpPr>
          <p:graphicFrame>
            <p:nvGraphicFramePr>
              <p:cNvPr id="106" name=""/>
              <p:cNvGraphicFramePr/>
              <p:nvPr/>
            </p:nvGraphicFramePr>
            <p:xfrm>
              <a:off x="2271600" y="2514600"/>
              <a:ext cx="776520" cy="56664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107" name="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2271600" y="2514600"/>
                        <a:ext cx="77652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8" name=""/>
              <p:cNvSpPr/>
              <p:nvPr/>
            </p:nvSpPr>
            <p:spPr>
              <a:xfrm>
                <a:off x="2514600" y="266688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2271600" y="1981080"/>
              <a:ext cx="776520" cy="567000"/>
              <a:chOff x="2271600" y="1981080"/>
              <a:chExt cx="776520" cy="567000"/>
            </a:xfrm>
          </p:grpSpPr>
          <p:graphicFrame>
            <p:nvGraphicFramePr>
              <p:cNvPr id="110" name=""/>
              <p:cNvGraphicFramePr/>
              <p:nvPr/>
            </p:nvGraphicFramePr>
            <p:xfrm>
              <a:off x="2271600" y="1981080"/>
              <a:ext cx="776520" cy="56700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111" name="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2271600" y="1981080"/>
                        <a:ext cx="776520" cy="56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2" name=""/>
              <p:cNvSpPr/>
              <p:nvPr/>
            </p:nvSpPr>
            <p:spPr>
              <a:xfrm>
                <a:off x="2514600" y="213372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oklapanje zagrad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zlazni parov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u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(u,v)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akvi da se lijeva zagrada na poziciji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u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klapa sa desnom zagradom na poziciji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,6)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1,13)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15,19)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21,25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7,31)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0,32)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(34,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c+d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0,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33cc"/>
                </a:solidFill>
                <a:latin typeface="Times New Roman"/>
              </a:rPr>
              <a:t>desna</a:t>
            </a: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 </a:t>
            </a:r>
            <a:r>
              <a:rPr b="0" lang="sr-Latn-CS" sz="2800" spc="-1" strike="noStrike">
                <a:solidFill>
                  <a:srgbClr val="ff33cc"/>
                </a:solidFill>
                <a:latin typeface="Times New Roman"/>
              </a:rPr>
              <a:t>zagrada na poziciji</a:t>
            </a: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 5 </a:t>
            </a:r>
            <a:r>
              <a:rPr b="0" lang="sr-Latn-CS" sz="2800" spc="-1" strike="noStrike">
                <a:solidFill>
                  <a:srgbClr val="ff33cc"/>
                </a:solidFill>
                <a:latin typeface="Times New Roman"/>
              </a:rPr>
              <a:t>nema odgovarajuće lije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8,1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33"/>
                </a:solidFill>
                <a:latin typeface="Times New Roman"/>
              </a:rPr>
              <a:t>lijeva zagrada na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7 </a:t>
            </a:r>
            <a:r>
              <a:rPr b="0" lang="sr-Latn-CS" sz="2800" spc="-1" strike="noStrike">
                <a:solidFill>
                  <a:srgbClr val="ff0033"/>
                </a:solidFill>
                <a:latin typeface="Times New Roman"/>
              </a:rPr>
              <a:t>nema odgovarajuće des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imjer stek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819520" y="2057400"/>
            <a:ext cx="30733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oklapanje zagrad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keniramo ulazni niz slijeva udes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ada naiđemo na lijevu zagradu, dodamo njenu poziciju na st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ada naiđemo na desnu zagradu, uklanjamo odgovarajuću poziciju sa ste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90720" y="2819520"/>
            <a:ext cx="761760" cy="2743200"/>
            <a:chOff x="990720" y="2819520"/>
            <a:chExt cx="761760" cy="2743200"/>
          </a:xfrm>
        </p:grpSpPr>
        <p:sp>
          <p:nvSpPr>
            <p:cNvPr id="122" name=""/>
            <p:cNvSpPr/>
            <p:nvPr/>
          </p:nvSpPr>
          <p:spPr>
            <a:xfrm>
              <a:off x="99072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90720" y="556272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5248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066680" y="5105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48006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449568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990720" y="2819520"/>
            <a:ext cx="761760" cy="2743200"/>
            <a:chOff x="990720" y="2819520"/>
            <a:chExt cx="761760" cy="2743200"/>
          </a:xfrm>
        </p:grpSpPr>
        <p:sp>
          <p:nvSpPr>
            <p:cNvPr id="131" name=""/>
            <p:cNvSpPr/>
            <p:nvPr/>
          </p:nvSpPr>
          <p:spPr>
            <a:xfrm>
              <a:off x="99072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90720" y="556272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5248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1066680" y="5105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48006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,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9480" y="4730760"/>
            <a:ext cx="444240" cy="444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954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1,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472428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990720" y="2819520"/>
            <a:ext cx="761760" cy="2743200"/>
            <a:chOff x="990720" y="2819520"/>
            <a:chExt cx="761760" cy="2743200"/>
          </a:xfrm>
        </p:grpSpPr>
        <p:sp>
          <p:nvSpPr>
            <p:cNvPr id="143" name=""/>
            <p:cNvSpPr/>
            <p:nvPr/>
          </p:nvSpPr>
          <p:spPr>
            <a:xfrm>
              <a:off x="99072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90720" y="556272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5248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066680" y="5105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8006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,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9480" y="4730760"/>
            <a:ext cx="444240" cy="444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1,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15,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464832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Goran Šuković</cp:lastModifiedBy>
  <cp:lastPrinted>2000-03-30T20:56:41Z</cp:lastPrinted>
  <dcterms:modified xsi:type="dcterms:W3CDTF">2011-02-07T20:29:39Z</dcterms:modified>
  <cp:revision>251</cp:revision>
  <dc:subject/>
  <dc:title>Data Representation Methods</dc:title>
</cp:coreProperties>
</file>